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868-C9C7-497A-9344-3171F0F1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0A0-C70B-4F36-8CFC-ABACD386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84E-FCB5-447F-8B48-57C9A2F0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CBE-3E96-4A81-BEF4-641D87B5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8E5-A397-4988-8707-C6A70427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DC2-5253-44FF-ABB1-763E7EDC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FAA-1117-4716-8CFD-9CD808C6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6A3-CBE6-44A5-8AE9-3D11EA12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DE4-74CD-4C46-B5EE-916540E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B50-741E-4EEB-B9FD-229E2812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CEE8-8C0F-41CF-9D64-EC8363BE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128-FA43-42EC-9A67-99274110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B82B-C475-4EF5-8072-CF4F23B1A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30440" y="2112840"/>
            <a:ext cx="5922720" cy="323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32280" y="2217600"/>
            <a:ext cx="1325520" cy="30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217600"/>
            <a:ext cx="2179800" cy="3049560"/>
          </a:xfrm>
          <a:prstGeom prst="rightArrowCallout">
            <a:avLst>
              <a:gd name="adj1" fmla="val 16997"/>
              <a:gd name="adj2" fmla="val 21199"/>
              <a:gd name="adj3" fmla="val 16667"/>
              <a:gd name="adj4" fmla="val 557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257080" y="2217600"/>
            <a:ext cx="2179800" cy="3049560"/>
          </a:xfrm>
          <a:prstGeom prst="rightArrowCallout">
            <a:avLst>
              <a:gd name="adj1" fmla="val 16997"/>
              <a:gd name="adj2" fmla="val 21199"/>
              <a:gd name="adj3" fmla="val 16667"/>
              <a:gd name="adj4" fmla="val 557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09:00:05Z</dcterms:created>
  <dc:creator>Takeshima Shinichirou</dc:creator>
  <dc:description/>
  <dc:language>en-US</dc:language>
  <cp:lastModifiedBy>Takeshima Shinichirou</cp:lastModifiedBy>
  <dcterms:modified xsi:type="dcterms:W3CDTF">2002-02-04T00:31:42Z</dcterms:modified>
  <cp:revision>11</cp:revision>
  <dc:subject/>
  <dc:title>新規</dc:title>
</cp:coreProperties>
</file>